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470C-E32A-4B58-81AF-2039CB885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78D0-0BA5-4F9F-B107-7C5EBD6CA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0D1F-B3B0-4DA1-BE4A-2E88F7072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F4E6-596A-4BCD-B027-34A1F788A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9311-6FE9-4B5F-9DBB-1BB32457C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0179-450E-47C6-9A71-A5D79BA57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2593-2FE9-4C35-A620-360420808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FF2B-30EA-4D22-AA9B-ECFAAEE4C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D79A-9228-4064-AB52-EC7D89A35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D75D-2D14-4402-A7A9-793ADC66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6FD6-0123-4B2F-8FE2-3FD8C186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70BB-1517-4B04-90B7-F3E3417A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4F9C041-35CB-4B4D-99DD-A6096B2AE5D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돋움체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7360" y="426960"/>
            <a:ext cx="8445600" cy="6170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38320" y="61920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PR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00000" y="15699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65160" y="1585800"/>
            <a:ext cx="40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7480" y="1806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82600" y="180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83840" y="12589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93880" y="17924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7640" y="4181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7640" y="547704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62080" y="1335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60640" y="1335240"/>
            <a:ext cx="718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00480" y="25588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384000" y="257508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97960" y="27957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83080" y="27957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94000" y="27813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67240" y="2781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36920" y="1798560"/>
            <a:ext cx="306360" cy="21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원외처방 약제비 심사결과통보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44720" y="1794600"/>
            <a:ext cx="3063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참조번호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심사차수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60640" y="179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25527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93240" y="256860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97840" y="27892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982960" y="27892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93880" y="2774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67120" y="2774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18080" y="25448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704120" y="2560680"/>
            <a:ext cx="372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M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13760" y="27860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662360" y="278136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611600" y="27669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63960" y="2766960"/>
            <a:ext cx="0" cy="62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18080" y="21067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82880" y="21225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15560" y="23432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29760" y="2343240"/>
            <a:ext cx="3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11600" y="23288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63960" y="2328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881600" y="133524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360600" y="3089160"/>
            <a:ext cx="30636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19200" y="1569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73560" y="158580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G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16680" y="1806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01800" y="180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12720" y="1792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785960" y="179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89200" y="1335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197000" y="2340720"/>
            <a:ext cx="30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11720" y="300204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지원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90320" y="87804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351160" y="1344240"/>
            <a:ext cx="0" cy="120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081160" y="25560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154240" y="25718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078640" y="27925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63760" y="2792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75040" y="2778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347920" y="2778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36680" y="300348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통보일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78360" y="27781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88040" y="33973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53560" y="341316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85880" y="36338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570640" y="3633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81560" y="3619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562720" y="3619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32400" y="3873600"/>
            <a:ext cx="306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46680" y="3171960"/>
            <a:ext cx="3686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99000" y="33955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82160" y="34113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96480" y="36320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81600" y="3632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92520" y="36180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865760" y="3618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97200" y="2835720"/>
            <a:ext cx="306360" cy="16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요양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기관  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96880" y="3762000"/>
            <a:ext cx="91476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청구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험자종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청구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묶음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접수년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접수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969320" y="156672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131320" y="158256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977960" y="154764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45520" y="1336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27241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115920"/>
            <a:ext cx="4624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(Message branching diagra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03960" y="387000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참조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2968560" y="1343160"/>
            <a:ext cx="0" cy="120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576600" y="1343160"/>
            <a:ext cx="0" cy="120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00800" y="45100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367400" y="4525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L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12680" y="4746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583400" y="4746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294680" y="4732200"/>
            <a:ext cx="73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561440" y="4732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002800" y="4664880"/>
            <a:ext cx="671400" cy="22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부담환수금 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험자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장기관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부담환수금 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기관환수금 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조정금액 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80160" y="4282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307280" y="38448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84320" y="386064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304760" y="40813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586640" y="4092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300800" y="4067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581960" y="4067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07280" y="33987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400880" y="34146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04760" y="36352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47040" y="36352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00800" y="3621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81960" y="3611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7607160" y="3169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812000" y="3383640"/>
            <a:ext cx="306360" cy="12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심사조정건수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166240" y="340200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327880" y="341784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174880" y="338292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542440" y="3171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189320" y="1339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29040" y="17971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94920" y="181296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26520" y="2033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211640" y="2033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22560" y="2019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03720" y="2019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38480" y="2219040"/>
            <a:ext cx="30636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구분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제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93280" y="3606840"/>
            <a:ext cx="550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F09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5554800" y="3161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964120" y="38196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12720" y="38354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960160" y="40608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99040" y="40561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958000" y="40417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964120" y="33814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29280" y="33973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971680" y="36180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261120" y="3618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958000" y="3603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248520" y="3603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243480" y="4065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226200" y="4038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21480" y="45180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676200" y="4533840"/>
            <a:ext cx="422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619680" y="47545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904080" y="4754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615000" y="4740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88240" y="4740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60560" y="3582000"/>
            <a:ext cx="54972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담당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담당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당담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742080" y="493236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전화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6234120" y="3161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226200" y="4260960"/>
            <a:ext cx="0" cy="27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75280" y="45194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31080" y="4535640"/>
            <a:ext cx="533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973480" y="47563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257880" y="4756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969160" y="4741920"/>
            <a:ext cx="65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242040" y="4741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05680" y="45115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071200" y="452772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017560" y="47480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288280" y="4748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999560" y="4734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65960" y="4734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412040" y="4850640"/>
            <a:ext cx="306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환급금 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87360" y="404640"/>
            <a:ext cx="8445600" cy="604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1360" y="1152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3280" y="1685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93280" y="27874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93280" y="3854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93280" y="4997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87360" y="1312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96840" y="1547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58760" y="156384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19880" y="152892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87360" y="1312920"/>
            <a:ext cx="702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38320" y="596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PR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81280" y="474192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970520"/>
            <a:ext cx="2514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287360" y="1998720"/>
            <a:ext cx="9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295280" y="2006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004760" y="224172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066680" y="225756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027800" y="222264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87760" y="2770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3840" y="27860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04320" y="3006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709160" y="3006720"/>
            <a:ext cx="3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81640" y="2992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762440" y="2992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977000" y="2640600"/>
            <a:ext cx="306360" cy="12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제기관접수년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4759200" y="3648240"/>
            <a:ext cx="0" cy="18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308640" y="37195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430680" y="373536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306120" y="39560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602400" y="39481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302520" y="39416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607080" y="3941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308640" y="32781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402240" y="32940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325200" y="3514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506640" y="351468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302520" y="34941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588000" y="34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796080" y="373032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6608880" y="417960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84520" y="3833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60120" y="38498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82000" y="40705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67120" y="4070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78400" y="4056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759200" y="4056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764240" y="3722760"/>
            <a:ext cx="1761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61560" y="4238280"/>
            <a:ext cx="4280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제기관명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제기관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143680" y="3832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218920" y="38480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140800" y="4068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430960" y="4064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37200" y="4054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23040" y="4049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156280" y="4179600"/>
            <a:ext cx="6714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제기관명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제기관접수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처방전교부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87760" y="32130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564080" y="32288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85240" y="34495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767120" y="3460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481640" y="34354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762440" y="3435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43280" y="26496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020320" y="26654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940400" y="28861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22640" y="28972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936800" y="28717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17600" y="2871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43280" y="22114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036520" y="22366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940400" y="24573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146320" y="2443320"/>
            <a:ext cx="466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936800" y="2443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17600" y="2443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11480" y="3100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46160" y="33368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012040" y="33526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943640" y="35733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228760" y="35733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40040" y="3559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20840" y="3559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749600" y="3642840"/>
            <a:ext cx="671400" cy="15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종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증 번호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보장시설기호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명세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398240" y="2517120"/>
            <a:ext cx="54972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사업장기호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장기관기호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수진자 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2216160" y="1996920"/>
            <a:ext cx="0" cy="21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106800" y="3335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172320" y="335124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04280" y="3571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389400" y="3571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100320" y="3557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381480" y="3557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085560" y="3565800"/>
            <a:ext cx="54972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부담환수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험자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장기관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부담환수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기관환수금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계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212920" y="3214800"/>
            <a:ext cx="228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373560" y="3219480"/>
            <a:ext cx="0" cy="1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693960" y="333864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759840" y="335448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692160" y="35751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948480" y="357516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687840" y="35607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968640" y="3560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960720" y="3222720"/>
            <a:ext cx="0" cy="11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742200" y="3741480"/>
            <a:ext cx="42804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명일련 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담당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16560" y="3726000"/>
            <a:ext cx="0" cy="9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329520" y="48117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406200" y="482760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326640" y="50482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622920" y="50403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323040" y="5033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627960" y="5033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329520" y="4373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406920" y="43894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345720" y="4610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323040" y="4589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608880" y="4586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586560" y="4602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334200" y="54799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409440" y="549576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331680" y="57164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594480" y="5726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327720" y="57024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613560" y="5702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763600" y="5272200"/>
            <a:ext cx="5497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총투인정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투인정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회투약량인정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176320" y="5199120"/>
            <a:ext cx="42804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정의약품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53240" y="54799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728480" y="549576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650720" y="57164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935840" y="5716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647120" y="57024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927920" y="5702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923240" y="53658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043760" y="54799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119000" y="54957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041240" y="57164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326360" y="5716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037280" y="57024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18440" y="5702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313760" y="536724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164360" y="474048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정사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29280" y="473256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정금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626160" y="5267160"/>
            <a:ext cx="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34080" y="5362560"/>
            <a:ext cx="128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7635960" y="13125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356600" y="22464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433640" y="226224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353720" y="2482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639200" y="2482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350120" y="2468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631280" y="2468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356600" y="17985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412040" y="18144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54440" y="20350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643880" y="2035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50120" y="20210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631280" y="2021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367760" y="29098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459920" y="29257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365600" y="31464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650000" y="3146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361280" y="31320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634160" y="3132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629480" y="267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307360" y="1312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047080" y="17701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112960" y="1785960"/>
            <a:ext cx="39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044560" y="2006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329680" y="2006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040600" y="1992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21760" y="1992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093080" y="234972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증결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97600" y="1317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637320" y="17748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03200" y="17906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634800" y="20113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919920" y="2011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630840" y="1996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912000" y="1996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46760" y="2196720"/>
            <a:ext cx="30636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구분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제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33680" y="33289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600280" y="33447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L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531160" y="35654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816280" y="3565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527200" y="35514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808360" y="3551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800440" y="3213000"/>
            <a:ext cx="0" cy="1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627280" y="3803760"/>
            <a:ext cx="30636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환급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8T08:21:48Z</dcterms:created>
  <dc:creator>(주)KT인포텍</dc:creator>
  <dc:description/>
  <dc:language>en-US</dc:language>
  <cp:lastModifiedBy>Phillip</cp:lastModifiedBy>
  <cp:lastPrinted>2001-07-05T00:19:08Z</cp:lastPrinted>
  <dcterms:modified xsi:type="dcterms:W3CDTF">2005-10-12T02:12:27Z</dcterms:modified>
  <cp:revision>207</cp:revision>
  <dc:subject/>
  <dc:title>슬라이드 제목 없음</dc:title>
</cp:coreProperties>
</file>