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B2F-7062-40A2-92F5-D3A63EFF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155-1667-4345-B7B8-3D2DD459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AEB-AC3E-4F22-B82E-6EA2BFDF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6DF-BD92-43D3-A199-CBFC8857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2C4-6B78-460B-B748-58145CE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3DA-9F98-46C0-97F7-E81131B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F5F-0BB8-4834-BAB5-BF1444C9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EC2-58D6-4BA1-BB4E-3908A883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C67-6D8C-46E0-8282-785BA25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627-27C6-4111-91B4-56897C1C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FE5-DA9F-492E-9B68-D269829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B7E-3AE9-4542-9744-7127984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20DE94-648A-457A-A210-5882D0DC9C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0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76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8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92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892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9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7560" y="1447920"/>
            <a:ext cx="733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740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092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88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092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416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1609560"/>
            <a:ext cx="3063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심사결과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016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476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988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080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404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8788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3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2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2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23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864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7808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8080" y="266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556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068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289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484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396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28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0352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2662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128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24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64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6856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972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2596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0480" y="494352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8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940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40480" y="38746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06160" y="39308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7080" y="478296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308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3641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352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86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3200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9640" y="321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332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4040" y="3436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3416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5400" y="34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3480" y="364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3760" y="38577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67800" y="4373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4400" y="428904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98240" y="2492640"/>
            <a:ext cx="549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8328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76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9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1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92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50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4520" y="5802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3095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19960" y="4087440"/>
            <a:ext cx="4280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65240" y="1964160"/>
            <a:ext cx="9147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8000" y="400320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7360" y="1447920"/>
            <a:ext cx="517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7360" y="2133720"/>
            <a:ext cx="18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024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22760" y="2371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98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202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53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16640" y="2593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74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22760" y="193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856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2096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16640" y="215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74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2456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1672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24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716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1808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59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056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715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02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82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992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80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924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4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69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1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6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9736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8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1328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5288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148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7772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089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940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0536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61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7212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7960" y="3284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8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0432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194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2400" y="3805920"/>
            <a:ext cx="7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16680" y="2327400"/>
            <a:ext cx="428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1:07:46Z</dcterms:modified>
  <cp:revision>224</cp:revision>
  <dc:subject/>
  <dc:title>슬라이드 제목 없음</dc:title>
</cp:coreProperties>
</file>