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DF3-8012-4846-A3AE-5BAAF212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B9DF-5934-46A5-8F80-132E9D23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C47-AF01-40B7-BD2A-8318909A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1DB-16D4-4B9D-BEA3-C2A5A98B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DEE-2E61-48C3-91EA-6DAA440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EAD-246F-486D-A6A3-DE1EF83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0BC-9ADA-4259-A6AF-B075DFDC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05F-3DC6-497E-8891-4685FD6E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03E-1D7F-457B-98C2-BA350FDF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D9B-86A5-4E71-9644-5A97389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687-AB19-4735-A92C-55056ED9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54E-0D88-45CA-97E9-62E9B66B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27BE4B-A42A-4D91-B53E-7FDA04A555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2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4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4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1447920"/>
            <a:ext cx="738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6640" y="1907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922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8516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897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4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616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590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77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73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980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7176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561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82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244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5148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36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4716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576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4500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9736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5148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664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4896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6316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500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9736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792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1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5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3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5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7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1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988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71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30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4652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05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56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669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9000" y="3167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3084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48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1076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308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27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95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8960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616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5920" y="3305160"/>
            <a:ext cx="268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5920" y="349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508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3400" y="3728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08520" y="372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9800" y="3714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92680" y="3714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57880" y="33163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1120" y="259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6360" y="387792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1680" y="16686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16844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60320" y="16495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27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6000" y="2192400"/>
            <a:ext cx="4280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심사결과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820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5680" y="35211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67680" y="35370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14320" y="35020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33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840" y="257040"/>
            <a:ext cx="473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7196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6960" y="3497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72840" y="3513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05160" y="3733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9560" y="3733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00840" y="3719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81640" y="37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1680" y="39736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8920" y="33051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4862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4240" y="3502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5480" y="3722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0600" y="3722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1880" y="3708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2680" y="3708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39625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868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8124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476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787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384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512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41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9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66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8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8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4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4172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3544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080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1000" y="1854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6880" y="1870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8480" y="2090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83600" y="20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94520" y="207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7568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45360" y="2330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51560" y="1444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080" y="2055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1320" y="360684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6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42120" y="3960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90720" y="3976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160" y="420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77040" y="419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418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42120" y="3522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07280" y="3538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49680" y="3759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39120" y="3759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3745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26160" y="3745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21480" y="42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04200" y="41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9480" y="455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54200" y="457056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97320" y="4791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82080" y="479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93000" y="477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66240" y="47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38560" y="37900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31240" y="4989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12120" y="330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04200" y="4402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5328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08720" y="456264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51480" y="47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3588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46800" y="4768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2004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106668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3006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280" y="414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3280" y="5292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2460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976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22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0720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8120" y="38419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98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45000" y="3618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10880" y="3633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43200" y="38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27600" y="38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3852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19680" y="38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6880" y="23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563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23760" y="2579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0760" y="2544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71560" y="2347920"/>
            <a:ext cx="773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34960" y="2957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12000" y="2973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2440" y="319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14680" y="320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8840" y="317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09640" y="31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34960" y="251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856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331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2864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28840" y="274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0964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6900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48200" y="3632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6648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304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6252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4512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69000" y="3178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64040" y="319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341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68440" y="34146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2520" y="34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4512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7548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53600" y="4741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7260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59520" y="496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5160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75480" y="428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70520" y="4303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72600" y="4524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54840" y="452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69000" y="45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51600" y="451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46920" y="406224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924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4760" y="5410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96720" y="563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8184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9276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7392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08720" y="4055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14680" y="33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3352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34960" y="359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01560" y="3606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32440" y="3827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17560" y="382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28840" y="3813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09640" y="381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6388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2940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6100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4648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385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64360" y="4665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0800" y="2809440"/>
            <a:ext cx="7930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57840" y="3962520"/>
            <a:ext cx="42804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48480" y="4106880"/>
            <a:ext cx="1523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유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8280" y="2324160"/>
            <a:ext cx="3591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의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71560" y="3940920"/>
            <a:ext cx="549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17560" y="541980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06640" y="31766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52480" y="544500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704960" y="2352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17560" y="34765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6920" y="516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46920" y="5272200"/>
            <a:ext cx="19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538520" y="33004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8520" y="33004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6556320" y="3921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30480" y="36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96360" y="3635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79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13440" y="3855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051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10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02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07600" y="234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96120" y="25718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58120" y="2587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04760" y="2552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1164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77520" y="3645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0948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94240" y="38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0516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632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3400" y="4137120"/>
            <a:ext cx="4280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1152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77040" y="364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0936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65680" y="3865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504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8620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27000" y="400680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488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764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52360" y="17683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936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1523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14860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82160" y="17683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5724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248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22920" y="3173400"/>
            <a:ext cx="342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04000" y="233676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84640" y="23162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8972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55960" y="2773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7200" y="29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7232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360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29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21480" y="32338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640640" y="23479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20360" y="26683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93000" y="2708280"/>
            <a:ext cx="270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9880" y="2828880"/>
            <a:ext cx="25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26120" y="40471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773600" y="329400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3600" y="32940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4894200" y="32940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94200" y="32940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5429160" y="595944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9160" y="59594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2954160" y="236232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5012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5640" y="54100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47600" y="563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3272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4364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2480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7400" y="45896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197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912080" y="60040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12080" y="6004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8001000" y="59720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5160" y="539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51040" y="54133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082280" y="563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67760" y="563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78680" y="561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59480" y="561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03960" y="58586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13720" y="5392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79600" y="5408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11200" y="5629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9632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07240" y="5614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88400" y="561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10120" y="3063240"/>
            <a:ext cx="549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53360" y="52610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9833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7360" y="404640"/>
            <a:ext cx="8445600" cy="619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1360" y="14684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20019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31035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3280" y="4170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3280" y="5313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8736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6840" y="18446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5876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1988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95280" y="1628640"/>
            <a:ext cx="702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38320" y="5493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848640" y="16286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9560" y="260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36240" y="2616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7040" y="28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21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3080" y="282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3424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9560" y="2162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15000" y="2178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57760" y="2398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2398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238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34240" y="23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31000" y="30481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40360" y="4486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632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5956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6940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97480" y="3858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97480" y="2414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48480" y="51015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78120" y="50252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7640" y="513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51640" y="4695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16080" y="4711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49120" y="493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34240" y="4932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45160" y="491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18400" y="491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80200" y="470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253640" y="4718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96760" y="493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62800" y="493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174080" y="492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46960" y="492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90040" y="470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77520" y="4721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87880" y="4941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72280" y="494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83560" y="492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56440" y="492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61000" y="382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38760" y="38448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58480" y="4065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4880" y="4051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35680" y="4051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61000" y="3390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16440" y="340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8480" y="362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59000" y="36273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54880" y="3613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35680" y="361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23080" y="42670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0584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11320" y="1879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0296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8808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9936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7224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7548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6602400" y="1933560"/>
          <a:ext cx="165240" cy="22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0" y="1933560"/>
                    <a:ext cx="16524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8088480" y="6318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8480" y="6318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8177040" y="628668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25360" y="220320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873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68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587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198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95280" y="98100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929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024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643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254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9440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60640" y="1879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9188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7700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8792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86440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15080" y="21967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30880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18640" y="1844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08020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4132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0376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69280" y="29894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15640" y="320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8636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97280" y="319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6404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83120" y="28242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9760" y="3370680"/>
            <a:ext cx="6714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83120" y="273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05200" y="2295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82240" y="2311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0268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84920" y="254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99080" y="2517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7988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05200" y="1857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98800" y="1873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400" y="2093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44960" y="2093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99080" y="20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79880" y="20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98320" y="198396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00544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80200" y="299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46080" y="30067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77320" y="322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62440" y="322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73720" y="321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54520" y="321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75240" y="3471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5160" y="283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12800" y="18986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284560" y="163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2309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8120" y="2325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78560" y="2546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63680" y="2546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74960" y="2532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55760" y="253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81080" y="1871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4680" y="188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78560" y="210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49640" y="210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74960" y="209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55760" y="209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8612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2720" y="304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8324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68360" y="326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7964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60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46520" y="288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6716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32680" y="3046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7868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02240" y="3267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6068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7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43160" y="3025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9040" y="3041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40640" y="3262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25760" y="326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37040" y="3247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17840" y="32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03440" y="2873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68360" y="2874960"/>
            <a:ext cx="112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51080" y="27432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76800" y="189360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52960" y="203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18840" y="2054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50080" y="227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35200" y="227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6480" y="2260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27280" y="226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97320" y="25146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503520" y="16282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65920" y="24141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2360" y="323496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61920" y="2855160"/>
            <a:ext cx="5497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상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399400" y="3366360"/>
            <a:ext cx="152316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3106800" y="472428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06800" y="472428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87360" y="404640"/>
            <a:ext cx="8445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8736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96840" y="120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58760" y="1544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19880" y="118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990720"/>
            <a:ext cx="62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38320" y="48564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81280" y="4741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4970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858000" y="9903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57864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55680" y="1920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7612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6124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57216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5332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578640" y="146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34080" y="1482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76480" y="1703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65920" y="170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72160" y="168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3320" y="168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80080" y="2577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72600" y="2593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578280" y="281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62680" y="281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73960" y="280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46840" y="280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0080" y="235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64320" y="990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04040" y="143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69920" y="14540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01520" y="167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86640" y="167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297560" y="166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78720" y="166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180200" y="2017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34040" y="993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73760" y="144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39640" y="1457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71240" y="167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6360" y="167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867280" y="166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8440" y="166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2000" y="20095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87360" y="157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6840" y="179532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58760" y="181116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1988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84120" y="1579680"/>
            <a:ext cx="400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52560" y="33148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29960" y="333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50040" y="3551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32280" y="356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46440" y="353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27240" y="35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52560" y="287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98640" y="28926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769120" y="311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3960" y="3112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46440" y="3098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27240" y="309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27240" y="375300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82920" y="38113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616640" y="576972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63720" y="3971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38960" y="3987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61200" y="4208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46320" y="420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57600" y="419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38400" y="419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043080" y="4413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792520" y="505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6992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7900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71880" y="530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86040" y="528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672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92520" y="461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38600" y="46353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08720" y="48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82240" y="485604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86040" y="484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67200" y="48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46200" y="5103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062160" y="549900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11600" y="5699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86840" y="57150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094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9420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05120" y="592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8628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67160" y="5699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32680" y="5715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556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4004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54560" y="592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4652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54240" y="558468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59120" y="55846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446200" y="569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16240" y="5699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191480" y="571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4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9884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10120" y="592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9092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86240" y="55846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205000" y="156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13040" y="2536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89720" y="2552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13400" y="27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95640" y="2773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06560" y="2759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90600" y="275904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13040" y="2098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68480" y="21146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14120" y="2335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135160" y="2335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06560" y="2320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90600" y="232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54200" y="23508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81240" y="3321000"/>
            <a:ext cx="10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49840" y="57261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076560" y="178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42080" y="180180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74040" y="202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59160" y="202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070080" y="200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1240" y="200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334980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9800" y="2914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45680" y="2930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91680" y="3151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62400" y="3151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73680" y="3137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40080" y="31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67080" y="278748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54440" y="2932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20320" y="2948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52640" y="316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37040" y="316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3154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29120" y="315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15080" y="277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268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986280" y="2236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63680" y="2252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83760" y="2473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65640" y="248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79800" y="2459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60960" y="2459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8628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079880" y="1814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98412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2604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7980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096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28616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14840" y="1753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254400" y="3212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10120" y="1801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075640" y="1817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008320" y="2038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92720" y="2038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3640" y="202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84800" y="20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54480" y="22780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126040" y="2274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276880" y="156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21:04Z</cp:lastPrinted>
  <dcterms:modified xsi:type="dcterms:W3CDTF">2005-10-12T01:12:26Z</dcterms:modified>
  <cp:revision>145</cp:revision>
  <dc:subject/>
  <dc:title>슬라이드 제목 없음</dc:title>
</cp:coreProperties>
</file>