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F9E3-CB0B-4213-919C-F92F15BA4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5F79-3029-4405-8F52-D6FE39FB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089C-5A4C-4697-8250-3806BD631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5C9E-80A1-4658-BE8A-A8766FAE3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AF36-3232-4D69-967E-5B9E1E55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D377-C436-4B14-B4F5-001180A4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FE41-1C5C-4192-A01C-8922CE88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0650-9DCB-49E7-A0A1-FD62C7F5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99EE-0EBC-492F-BDEB-681B3246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7340-F4DF-4E57-B038-6EFA261C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E709-8B4F-47C3-8B48-48C30437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3A1B-34E3-47CE-843B-2E2D2EC1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988E743-C38B-45A0-8754-61A9834E13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674640"/>
            <a:ext cx="864216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8320" y="866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R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1817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20800" y="1833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53120" y="2054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38240" y="2054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9120" y="15066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9160" y="2039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3280" y="4429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3280" y="572436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17720" y="1582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15920" y="1582560"/>
            <a:ext cx="718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56120" y="28814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39280" y="28972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53240" y="3117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38360" y="3117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49640" y="3103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2520" y="310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92200" y="2070000"/>
            <a:ext cx="306360" cy="19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요양급여비용 심사결과통보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2042280"/>
            <a:ext cx="306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심사차수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15920" y="2039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2874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48880" y="28908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53120" y="3111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38600" y="3111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49520" y="3097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22400" y="3097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35360" y="15822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16400" y="15822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65600" y="2874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31120" y="2890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63440" y="3111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48200" y="3111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59120" y="3097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40280" y="3097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016520" y="15822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56000" y="2874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22240" y="28908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54200" y="3111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38600" y="3111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9880" y="30970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0680" y="3097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606920" y="15822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29320" y="27925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77200" y="28083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25000" y="3033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73600" y="302904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22840" y="3014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75200" y="301464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29320" y="23544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94120" y="2370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26800" y="2590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41000" y="25909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22840" y="2576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75200" y="257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892840" y="1582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6240" y="3411360"/>
            <a:ext cx="30636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09960" y="3373560"/>
            <a:ext cx="30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00720" y="33512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4840" y="1817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29200" y="1833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2320" y="2054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57440" y="2054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68360" y="2039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41600" y="2039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44480" y="1582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052640" y="2588400"/>
            <a:ext cx="30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35320" y="33242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지원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0320" y="1125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235240" y="15822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36800" y="2878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09880" y="28940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34280" y="3114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19400" y="3114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30320" y="3100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03560" y="3100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2720" y="33498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통보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08680" y="3038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46760" y="2874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12280" y="28908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44600" y="3111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29360" y="3111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40280" y="3097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21440" y="3097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197320" y="15822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91120" y="33512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49520" y="463392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73760" y="3424320"/>
            <a:ext cx="2228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03760" y="36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86920" y="3659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01240" y="38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86360" y="38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97640" y="3865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70520" y="386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08880" y="40784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57480" y="40942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04560" y="4319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43800" y="4314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02400" y="4300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08880" y="36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74040" y="36561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16440" y="38768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05880" y="3876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02400" y="38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92920" y="38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88240" y="4324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770960" y="4297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166240" y="4672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20960" y="4687920"/>
            <a:ext cx="42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164080" y="4908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448840" y="4908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9760" y="4894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432640" y="4894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52840" y="3304440"/>
            <a:ext cx="3063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 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68960" y="27273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기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77400" y="4009680"/>
            <a:ext cx="79308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종별 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묶음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005320" y="3840840"/>
            <a:ext cx="54972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담당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담당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당담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98000" y="51069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전화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34320" y="179532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996320" y="181116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842960" y="17762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10520" y="157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971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363600"/>
            <a:ext cx="4624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32680" y="3646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98200" y="36622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30520" y="3882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515280" y="388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26200" y="3868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507000" y="386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512040" y="342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77040" y="412272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61240" y="3665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27120" y="36813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720" y="3902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143840" y="3902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4760" y="3887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35920" y="3887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140600" y="343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05600" y="414180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778880" y="342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845480" y="290664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007480" y="292248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854120" y="2887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8102520" y="3195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62760" y="400356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 구분항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88040" y="1989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154280" y="20048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85520" y="2225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70640" y="2225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81920" y="2211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362720" y="2211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232760" y="246528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7338960" y="157968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20480" y="219024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43880" y="3727440"/>
            <a:ext cx="550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F02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70960" y="45194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20040" y="46641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575480" y="4680000"/>
            <a:ext cx="533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17880" y="4900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02640" y="4900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13560" y="4886280"/>
            <a:ext cx="65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786800" y="4886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360" y="68580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3280" y="16002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3280" y="2711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3280" y="3854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3280" y="4997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76400" y="122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145584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52360" y="147168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99360" y="14367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121932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69360" y="6904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R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61120" y="33163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26280" y="33321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58960" y="35528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580000" y="3552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54640" y="3538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03760" y="3538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294012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11640" y="294012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35440" y="331956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01320" y="333540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33640" y="3556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8040" y="3556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729320" y="3541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010120" y="3541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66880" y="205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120" y="227664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23760" y="229248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0760" y="2257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71560" y="2052720"/>
            <a:ext cx="764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148600" y="144792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282160" y="146376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157240" y="14288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524800" y="122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44560" y="26496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1600" y="26654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742040" y="2886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23920" y="2897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38440" y="28717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19240" y="2871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44560" y="22114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838160" y="22273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42760" y="2448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38240" y="243360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738440" y="2433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019240" y="2433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79320" y="2036880"/>
            <a:ext cx="40784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심사결정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소계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 결정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 직접지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 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 총액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비급여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  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재진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초진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54640" y="3526200"/>
            <a:ext cx="1036440" cy="22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처방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입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내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재진 가산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3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분이상 투약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재진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2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분 투약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초진 가산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분 투약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초진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001960" y="3181320"/>
            <a:ext cx="420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42120" y="3704400"/>
            <a:ext cx="30636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개시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014560" y="3083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17920" y="3187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44560" y="331164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11160" y="3327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42040" y="3548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27160" y="3548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38440" y="3533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19240" y="3533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347920" y="3327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13800" y="33433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345400" y="3564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630520" y="3564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41440" y="3549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622600" y="3549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34800" y="2564280"/>
            <a:ext cx="549720" cy="8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사업장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 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9120" y="3706560"/>
            <a:ext cx="79308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액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률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증 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형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00640" y="3709800"/>
            <a:ext cx="42804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추가 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 환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936520" y="2516040"/>
            <a:ext cx="258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93760" y="2914560"/>
            <a:ext cx="21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898160" y="2917800"/>
            <a:ext cx="243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023920" y="20541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58000" y="3746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35400" y="376236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55480" y="3983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0600" y="3983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51520" y="3968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32680" y="3968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58000" y="3308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51600" y="3324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55840" y="3544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147720" y="354492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951520" y="3530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232680" y="3530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64120" y="4856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40800" y="48718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61600" y="5092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46720" y="5092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58000" y="5078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238800" y="5078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964120" y="44179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57720" y="44337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61600" y="4654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242040" y="4654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958000" y="4640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238800" y="464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234120" y="4192560"/>
            <a:ext cx="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6440" y="55087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52320" y="55245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983920" y="5745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69040" y="5745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79960" y="5730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61120" y="5730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6160" y="5518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691680" y="55339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624360" y="5754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908760" y="5754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0040" y="57405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900840" y="5740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10320" y="39128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00600" y="479592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33800" y="4722840"/>
            <a:ext cx="549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492160" y="5562720"/>
            <a:ext cx="549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관련근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536440" y="5589720"/>
            <a:ext cx="243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34120" y="5299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38800" y="5380200"/>
            <a:ext cx="19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96160" y="53722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143240" y="33242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9120" y="33400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40720" y="3560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26200" y="356076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137120" y="35463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17920" y="354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384800" y="3174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013360" y="3181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99080" y="316692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208560" y="3171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08320" y="3174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38320" y="33307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04200" y="33465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936520" y="3567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92840" y="356724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932200" y="35528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13000" y="3552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17440" y="3728880"/>
            <a:ext cx="54972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일련 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특정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담당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315200" y="2457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81440" y="24732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12680" y="2693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597800" y="2693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308720" y="2679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589880" y="2679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956200" y="29336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566120" y="204804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14920" y="31910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544920" y="33307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610800" y="33465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43120" y="3567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27520" y="3567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538440" y="3552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19600" y="3552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665520" y="3660480"/>
            <a:ext cx="306360" cy="13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주상병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주증상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145360" y="226548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278920" y="228132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154000" y="22464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521560" y="204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46680" y="2052720"/>
            <a:ext cx="306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68880" y="1916280"/>
            <a:ext cx="306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85200" y="2408400"/>
            <a:ext cx="270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843440" y="3025800"/>
          <a:ext cx="150840" cy="20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3440" y="302580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4971960" y="3025800"/>
          <a:ext cx="150840" cy="206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71960" y="302580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5602320" y="6093000"/>
          <a:ext cx="150840" cy="206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02320" y="609300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8088480" y="6137280"/>
          <a:ext cx="150480" cy="2062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088480" y="6137280"/>
                    <a:ext cx="15048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8177040" y="6105600"/>
            <a:ext cx="42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사용유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384720" y="2076480"/>
            <a:ext cx="576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261200" y="55213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327080" y="5537160"/>
            <a:ext cx="35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258680" y="5757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543800" y="5757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254720" y="5743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535880" y="5743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380360" y="5991840"/>
            <a:ext cx="306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단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889760" y="5516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956000" y="55324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887240" y="5753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172360" y="5753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883640" y="5738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164440" y="5738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886160" y="3196440"/>
            <a:ext cx="54972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여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투여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여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투여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건수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529400" y="5361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155080" y="5356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77800" y="243648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96840" y="166356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058760" y="167940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19880" y="1644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95280" y="1447920"/>
            <a:ext cx="699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R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81280" y="510552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726240" y="2720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02920" y="27367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723720" y="2957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008840" y="2957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719760" y="2943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00920" y="2943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726240" y="2282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81680" y="2298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24440" y="25192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948360" y="251928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19760" y="2505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00920" y="2505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999120" y="3168720"/>
            <a:ext cx="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13520" y="4606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607160" y="460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236080" y="460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464160" y="39794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465960" y="253512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15160" y="5222160"/>
            <a:ext cx="3063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수탁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467120" y="5145840"/>
            <a:ext cx="5497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 직접지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014320" y="525312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리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18320" y="4816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82760" y="48322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15800" y="5052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000920" y="505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711840" y="5038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985080" y="503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346880" y="48229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420320" y="48387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37880" y="5059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629480" y="5059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40760" y="5045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607160" y="5045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956720" y="48261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044200" y="48420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954560" y="5062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238960" y="5062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950240" y="5048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223120" y="504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727680" y="39495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05440" y="396540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725160" y="4186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010280" y="4186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721560" y="4172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002360" y="4172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727680" y="35114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783120" y="35272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725160" y="3747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925680" y="374796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721560" y="3733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00236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05600" y="4387680"/>
            <a:ext cx="0" cy="41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803920" y="23018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866920" y="23176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01400" y="25383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83280" y="2538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797440" y="2523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75360" y="2523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486560" y="22827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552440" y="229860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484040" y="2519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769160" y="2519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480440" y="25052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761240" y="2505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484520" y="3402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50400" y="34178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96400" y="3638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767120" y="3638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478400" y="3624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745160" y="3624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761000" y="3252960"/>
            <a:ext cx="75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430880" y="3799080"/>
            <a:ext cx="67140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감내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금액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불능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 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764240" y="3159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486320" y="27241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63000" y="27399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483800" y="2960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765680" y="2971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479840" y="2946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761000" y="2946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486320" y="2286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579920" y="23018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484160" y="2522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726080" y="2522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479840" y="2508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761000" y="250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69720" y="2412720"/>
            <a:ext cx="54972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사항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불능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감내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4786200" y="2057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2929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002440" y="166356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064360" y="167940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025480" y="1644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541520" y="230832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1258920" y="2060640"/>
            <a:ext cx="722484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6070680" y="2066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6997680" y="2066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7759800" y="2066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607160" y="270792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08720" y="216504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249880" y="34196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15760" y="34354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47360" y="3656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532480" y="3656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43400" y="3641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524560" y="364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359320" y="39006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건수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194680" y="226548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327880" y="228132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203320" y="22464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483760" y="204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514840" y="32590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2212920" y="2041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09800" y="2719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986480" y="27352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907280" y="2955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192400" y="2955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03320" y="2941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184480" y="2941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909800" y="22813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003400" y="22971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07280" y="2517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178000" y="2517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903320" y="2503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184480" y="2503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14480" y="34401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1080" y="34560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911960" y="3676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197080" y="3676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908000" y="3662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189160" y="366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774880" y="32907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495520" y="3440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561040" y="34560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507400" y="3676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730960" y="36766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489040" y="3662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755800" y="366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071880" y="3435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37760" y="34513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69360" y="3672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354480" y="3672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065400" y="3657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346560" y="3657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332160" y="3282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197080" y="3284640"/>
            <a:ext cx="112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874520" y="3617640"/>
            <a:ext cx="549720" cy="15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추가 부담금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 환급금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567600" y="342576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건수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179800" y="3152880"/>
            <a:ext cx="0" cy="28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238480" y="3740760"/>
            <a:ext cx="1401480" cy="17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심사결정액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금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액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직접지급금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 부담금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액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금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505520" y="2302920"/>
            <a:ext cx="428040" cy="13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사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결사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소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181320" y="2448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247560" y="24638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78800" y="2684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463920" y="2684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74840" y="267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456000" y="2670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325680" y="2924280"/>
            <a:ext cx="30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3432240" y="203832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194640" y="282384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62160" y="2073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90720" y="231948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52640" y="233532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013400" y="23004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996840" y="166356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058760" y="167940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019880" y="1644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295280" y="1447920"/>
            <a:ext cx="69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R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581280" y="510552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7461360" y="14475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182000" y="2371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259040" y="238752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179120" y="2608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464600" y="2608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175520" y="2593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456320" y="2593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182000" y="1933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237440" y="194940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179840" y="2170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469280" y="2170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175520" y="2155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456320" y="215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183440" y="3044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275600" y="30607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181640" y="3281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466040" y="3281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176960" y="3267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450200" y="3267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462800" y="280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8256600" y="1447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996320" y="1905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062200" y="192096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993800" y="2141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278920" y="2141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989840" y="2127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271000" y="212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783560" y="24843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643800" y="1452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383160" y="19098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449400" y="19256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380640" y="2146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665760" y="2146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377040" y="2131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657840" y="213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492960" y="233172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478400" y="34052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544280" y="34210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489920" y="3641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761000" y="3641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471920" y="3627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738680" y="3627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765680" y="3278160"/>
            <a:ext cx="65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153040" y="3422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218560" y="34383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151240" y="36590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435640" y="3659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146560" y="3645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427720" y="3645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413320" y="32702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180760" y="3762720"/>
            <a:ext cx="42804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찰료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료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차감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진찰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302720" y="3790080"/>
            <a:ext cx="79308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약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사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근무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진찰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차등지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765680" y="3178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484520" y="27273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562280" y="274320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482000" y="2963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764240" y="2975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478400" y="2949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759200" y="2949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484520" y="22892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578480" y="23050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482720" y="25257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724280" y="2525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478400" y="25113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759200" y="2511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4784760" y="2060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192560" y="271116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668680" y="3146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745720" y="31622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666160" y="3382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948040" y="3394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662200" y="3368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943360" y="3368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668680" y="2708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714760" y="272412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684880" y="2944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889720" y="294480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662200" y="2930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943360" y="293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943360" y="3584520"/>
            <a:ext cx="0" cy="219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398680" y="398268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방전 교부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588560" y="544212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679840" y="38037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755080" y="3819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676960" y="4040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62440" y="4040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673360" y="4025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954160" y="4025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2959200" y="424476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708280" y="4889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786040" y="490536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705760" y="5126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987640" y="5137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701800" y="5111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982960" y="511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708280" y="4451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754360" y="446724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724840" y="4687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905920" y="468792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701800" y="4673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982960" y="4673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390760" y="49352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2978280" y="533052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727360" y="5530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802960" y="55468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725200" y="5767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009960" y="5767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720880" y="5753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002040" y="5753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375000" y="5530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450240" y="55468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373200" y="5767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657600" y="5767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368520" y="5753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649680" y="5753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71800" y="5416560"/>
            <a:ext cx="133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645000" y="541656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390760" y="55263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037040" y="5530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112280" y="55468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035240" y="5767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319640" y="5767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030560" y="5753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311720" y="5753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307040" y="541656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881360" y="2708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958040" y="27241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878480" y="2944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163600" y="2944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874880" y="2930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881360" y="2270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936800" y="228600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879200" y="2506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079360" y="250668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874880" y="2492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155680" y="249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619280" y="252216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210120" y="305064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2133720" y="2066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343240" y="2495520"/>
            <a:ext cx="57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2924280" y="24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438360" y="22734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503880" y="2289240"/>
            <a:ext cx="372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M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435840" y="2509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720960" y="2509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432240" y="2495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713040" y="2495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3711600" y="2057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565440" y="270792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151000" y="292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300320" y="2076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009800" y="229248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071720" y="230832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032480" y="22734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1305000" y="2063520"/>
            <a:ext cx="434664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384880" y="2295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50400" y="23115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382720" y="2532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667480" y="2532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378400" y="2517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659560" y="2517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529240" y="27716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500800" y="27680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5651640" y="2060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dc:language>en-US</dc:language>
  <cp:lastModifiedBy>Phillip</cp:lastModifiedBy>
  <cp:lastPrinted>2001-07-05T00:19:08Z</cp:lastPrinted>
  <dcterms:modified xsi:type="dcterms:W3CDTF">2005-10-12T01:11:52Z</dcterms:modified>
  <cp:revision>146</cp:revision>
  <dc:subject/>
  <dc:title>슬라이드 제목 없음</dc:title>
</cp:coreProperties>
</file>