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B33-1042-4F7F-AF29-8D02F6B8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47F-519A-4E92-82F5-AF0F78FE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08F-7000-4D93-8D03-593ABC0D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5C9-71EA-4305-912E-1B1E9E9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3A3-E742-4F3D-9671-177CFE2D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D00-E8BD-4A08-95EE-56DB1D9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57E-65E7-4DF4-AEA6-2DF74EF5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2E5-939A-46D7-AAE2-B0CA034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DCF-0324-4A6F-BE61-E0FA4AA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78A-EFA7-4A4B-912C-3EA5D2A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99E-FC39-446B-9EE7-03FE580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911-38B7-4C45-B5A5-0BE5509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15FCFD-3182-4057-B973-9FACD7ECD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4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8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5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1447920"/>
            <a:ext cx="733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388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704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3100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740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028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960" y="1704600"/>
            <a:ext cx="30636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776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93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376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664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24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0052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876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400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069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00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52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61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93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2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3040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476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8456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4560" y="266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764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204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7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289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132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008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060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38746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0196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1000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15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4740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936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412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50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620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3244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588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5400" y="46544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7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06160" y="39308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7080" y="478296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684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3641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352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86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31989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9640" y="3214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3320" y="3435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4040" y="34354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3414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5400" y="34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3480" y="364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3760" y="38577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2840" y="43653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7000" y="43254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38920" y="400320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8240" y="2492640"/>
            <a:ext cx="549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6420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46920" y="4276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24320" y="429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63120" y="451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40440" y="4492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62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4320" y="450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59400" y="5322600"/>
            <a:ext cx="67140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52000" y="42238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76600" y="4093920"/>
            <a:ext cx="67140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06480" y="1914120"/>
            <a:ext cx="164484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7360" y="1447920"/>
            <a:ext cx="547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7360" y="213372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0897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104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874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075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30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039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847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104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58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082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76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039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847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118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040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00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4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053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786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83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532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9296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884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9044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7556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8648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6764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4688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51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91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157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88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73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84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5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00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3196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0372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002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7728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9772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8284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9412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492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02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938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9772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688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9412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49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052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718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02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878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88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9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656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63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518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97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2140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798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46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6232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285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5980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4492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5620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3700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226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878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8664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5516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024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77960" y="3787560"/>
            <a:ext cx="91476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675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1:08:50Z</dcterms:modified>
  <cp:revision>231</cp:revision>
  <dc:subject/>
  <dc:title>슬라이드 제목 없음</dc:title>
</cp:coreProperties>
</file>