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5E0-FB3E-4047-91F2-1A08F597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AA17-155C-4721-BA08-27E43C94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E88-2C57-4225-9578-EA795CDC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63AC-78B5-4040-BE5A-6B6B66C3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87B-4447-4DF7-B6A6-A6A4C385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59C8-FE39-44D7-BA95-B27840D6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DDE-2042-4868-929F-ED0E6661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F9F4-4479-4F28-9CB7-0C42BCB4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74B5-9C64-4F4B-8BB6-923D4B0A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4E64-73AB-4D7F-942E-233588D3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53E3-D79C-4837-90D0-C06689D5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76C-A3A0-4B70-A0B8-21F5A7F6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3158FD-1D67-460A-87FE-5A5BCCA63D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00040"/>
            <a:ext cx="8445600" cy="609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6922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43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588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879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879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320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19160" y="1865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4254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55497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7360" y="140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5920" y="1398600"/>
            <a:ext cx="718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5760" y="27068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9280" y="27226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3240" y="2943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294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29289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92520" y="292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2200" y="1895040"/>
            <a:ext cx="30636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급여비용 정산심사내역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70000" y="1830600"/>
            <a:ext cx="306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85920" y="1865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5640" y="2700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8520" y="27162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23120" y="2936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8240" y="2936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922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2400" y="292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105000" y="14076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686040" y="14076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11480" y="2712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7720" y="2728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09680" y="2949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94080" y="2949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05360" y="2935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86160" y="2935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262400" y="1420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86320" y="2627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72360" y="264312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82360" y="2868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30960" y="2863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80200" y="2849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2560" y="28400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86320" y="21798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51480" y="2195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83800" y="241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98000" y="24163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80200" y="2401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2560" y="240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649840" y="14076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86240" y="323676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56200" y="3189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480" y="1643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99200" y="16588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41960" y="1879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27080" y="1879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38360" y="1865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11240" y="1865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14480" y="140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322280" y="24138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31496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320" y="9507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505240" y="14076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6800" y="27036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79880" y="27194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3920" y="2940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89040" y="2940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0320" y="2925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73200" y="292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22720" y="30999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65680" y="287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99200" y="3838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64720" y="38545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97400" y="4075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81800" y="407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9000" y="4060800"/>
            <a:ext cx="67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73880" y="406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43920" y="452772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2560" y="3240000"/>
            <a:ext cx="108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61120" y="3468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44280" y="3484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58240" y="3705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96200" y="37051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54640" y="3691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7520" y="369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67400" y="4975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16000" y="4991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63440" y="521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02320" y="521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61280" y="5197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67400" y="45277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32560" y="4543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4960" y="4764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4400" y="4764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61280" y="4749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51800" y="47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46760" y="5221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29480" y="51847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05680" y="5931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0400" y="59468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03880" y="616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88280" y="616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43680" y="615312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72440" y="6153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22480" y="309024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06520" y="3835080"/>
            <a:ext cx="9147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종별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63120" y="583164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13640" y="5856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5320" y="5937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23920" y="59529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90440" y="6178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10240" y="617364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69200" y="6159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5320" y="5489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40480" y="5505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2800" y="572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24800" y="572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69200" y="5711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30920" y="571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54680" y="618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37400" y="61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89920" y="16207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51920" y="16365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98560" y="16016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466120" y="14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3640" y="2797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890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78720" y="3839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737400" y="4212720"/>
            <a:ext cx="0" cy="31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62720" y="3838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58840" y="385452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60200" y="4075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45320" y="407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56240" y="406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7400" y="406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62720" y="34005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56320" y="3416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60200" y="3637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99600" y="36370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56240" y="3622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37400" y="362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18320" y="3244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50520" y="38908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연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51800" y="4400640"/>
            <a:ext cx="170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10040" y="139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9760" y="1851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5640" y="1866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7240" y="2087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2087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3280" y="2073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24440" y="207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59200" y="227304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82000" y="462456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44000" y="46404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90640" y="4605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458200" y="440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1440" y="4782960"/>
            <a:ext cx="549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18560" y="3533760"/>
            <a:ext cx="550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F0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01600" y="260280"/>
            <a:ext cx="8712360" cy="633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4080" y="40464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9280" y="13190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9280" y="2427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9280" y="3570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9280" y="4713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19000" y="83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7800" y="106668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800" y="10825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440" y="10476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2240" y="839880"/>
            <a:ext cx="749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41720" y="4096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5280" y="3624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0800" y="3639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03480" y="3860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24520" y="3860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99160" y="3846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48280" y="3846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79960" y="3627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45840" y="36432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77440" y="3863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28000" y="38638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73480" y="384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54640" y="38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7040" y="157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5200" y="179712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7200" y="181296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3840" y="17780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2000" y="1571760"/>
            <a:ext cx="755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34400" y="10652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67600" y="10810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43040" y="10461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10600" y="844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89080" y="2967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66120" y="2982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86560" y="320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68440" y="321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82600" y="318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63760" y="318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89080" y="251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82680" y="2535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86560" y="275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82400" y="27417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82600" y="274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63760" y="274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91400" y="1636560"/>
            <a:ext cx="2496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71000" y="3855240"/>
            <a:ext cx="1158120" cy="24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 가산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3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이상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2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 가산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86280" y="401220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9080" y="3390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6208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89080" y="36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55680" y="3635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86560" y="38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71680" y="38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82600" y="384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6376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92440" y="3635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57960" y="3651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89560" y="3871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75040" y="3871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85960" y="3857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66760" y="3857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480" y="268848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99760" y="4012920"/>
            <a:ext cx="914760" cy="10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률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환수환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79200" y="3899520"/>
            <a:ext cx="54972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02160" y="4064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79920" y="40798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99640" y="4300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84760" y="4300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96040" y="4286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76840" y="4286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02160" y="3616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95760" y="3632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00360" y="3852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92240" y="38527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96040" y="3838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7684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96160" y="5164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72840" y="5180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93280" y="5400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78400" y="540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89680" y="5386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70480" y="538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08640" y="4726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02240" y="4741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06120" y="4962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48760" y="4962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02160" y="4948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83320" y="494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78640" y="4500720"/>
            <a:ext cx="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68920" y="515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34800" y="5175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66400" y="539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1520" y="5396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62800" y="538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43600" y="538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22960" y="515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88840" y="51753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21160" y="5396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05560" y="5396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116840" y="538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97640" y="538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54480" y="42206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3080" y="3341160"/>
            <a:ext cx="549720" cy="21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환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117920" y="455616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543360" y="5627880"/>
            <a:ext cx="54972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579360" y="575316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7760" y="3632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53280" y="36482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5240" y="3868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70720" y="38685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3854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62440" y="3854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28960" y="3483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56080" y="3470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43600" y="3475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59560" y="3479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52840" y="3483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82840" y="363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48360" y="36543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81040" y="3875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65440" y="38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76360" y="3860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57520" y="38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77520" y="3879000"/>
            <a:ext cx="54972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정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59080" y="3479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89440" y="363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55320" y="36543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87280" y="3875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1680" y="38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82960" y="3860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63760" y="38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3800" y="4056480"/>
            <a:ext cx="42804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병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381480" y="2516040"/>
            <a:ext cx="3063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688480" y="2060640"/>
            <a:ext cx="347400" cy="323280"/>
            <a:chOff x="2688480" y="2060640"/>
            <a:chExt cx="347400" cy="323280"/>
          </a:xfrm>
        </p:grpSpPr>
        <p:sp>
          <p:nvSpPr>
            <p:cNvPr id="333" name=""/>
            <p:cNvSpPr/>
            <p:nvPr/>
          </p:nvSpPr>
          <p:spPr>
            <a:xfrm>
              <a:off x="2688480" y="2066760"/>
              <a:ext cx="2138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92880" y="2060640"/>
              <a:ext cx="24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5" name=""/>
            <p:cNvGraphicFramePr/>
            <p:nvPr/>
          </p:nvGraphicFramePr>
          <p:xfrm>
            <a:off x="2749320" y="2178000"/>
            <a:ext cx="150480" cy="2059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9320" y="2178000"/>
                      <a:ext cx="150480" cy="20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7" name=""/>
            <p:cNvGraphicFramePr/>
            <p:nvPr/>
          </p:nvGraphicFramePr>
          <p:xfrm>
            <a:off x="2868480" y="2178000"/>
            <a:ext cx="150120" cy="2059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3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8480" y="2178000"/>
                      <a:ext cx="150120" cy="20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39" name=""/>
          <p:cNvGraphicFramePr/>
          <p:nvPr/>
        </p:nvGraphicFramePr>
        <p:xfrm>
          <a:off x="6647040" y="6230880"/>
          <a:ext cx="150480" cy="20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47040" y="623088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8405640" y="635940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82040" y="5162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747920" y="517860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79160" y="5398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64640" y="539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75560" y="538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56720" y="538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794720" y="5648040"/>
            <a:ext cx="30636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244000" y="5167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09880" y="51832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241480" y="5403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526600" y="5403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237520" y="5389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518680" y="538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44360" y="3025080"/>
            <a:ext cx="4280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05400" y="5162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71280" y="517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02880" y="5398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88000" y="539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98920" y="538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80080" y="538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04360" y="500328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465200" y="3473280"/>
            <a:ext cx="420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959600" y="179712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093160" y="181296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968240" y="17780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335800" y="1576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476360" y="1581120"/>
            <a:ext cx="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538812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8305920" y="6362640"/>
          <a:ext cx="150840" cy="206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05920" y="636264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892920" y="6164280"/>
          <a:ext cx="150840" cy="2062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92920" y="61642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87360" y="539640"/>
            <a:ext cx="8445600" cy="598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96840" y="16732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58760" y="16891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1988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1447920"/>
            <a:ext cx="69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42080" y="27306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19120" y="2746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39560" y="2967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24680" y="2967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35600" y="2952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16760" y="295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742080" y="228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97520" y="229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40280" y="2519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64200" y="25192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3560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1676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15320" y="31687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29360" y="460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300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25192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51560" y="39794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53360" y="243648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31000" y="52221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탁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69280" y="5054040"/>
            <a:ext cx="3063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30160" y="52531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34160" y="481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98600" y="4832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31640" y="505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16760" y="505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27680" y="503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00920" y="503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62720" y="4822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36520" y="48387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353720" y="5059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45320" y="5059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56600" y="5045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3000" y="504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972560" y="4826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060400" y="4842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970400" y="5062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255160" y="5062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966080" y="5048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238960" y="504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43880" y="395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21280" y="39751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41000" y="419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26120" y="4195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37400" y="4181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018200" y="4181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43880" y="3511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99320" y="35272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41000" y="374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941520" y="37479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37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0182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012080" y="4387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62400" y="2305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228280" y="23209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74280" y="2541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445000" y="2541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56280" y="2527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423040" y="2527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97400" y="2473200"/>
            <a:ext cx="3063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과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2771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996320" y="16635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058240" y="16794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01936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336760" y="23083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701352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811840" y="2303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77720" y="23194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809320" y="2540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94440" y="2540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05360" y="2525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86520" y="2525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24520" y="2454120"/>
            <a:ext cx="3063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과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951680" y="228456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085240" y="23004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960320" y="2265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40760" y="206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008160" y="204768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05040" y="2728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782080" y="2744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702520" y="2965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987640" y="2965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698920" y="2951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79720" y="29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05040" y="2281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798640" y="2297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02520" y="251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73240" y="251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98920" y="2503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79720" y="25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709720" y="3440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7632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0720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92320" y="3676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703600" y="3662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8440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7012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90760" y="3440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56640" y="3456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0264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2620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84640" y="3662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5140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67120" y="3435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33000" y="3451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64600" y="3672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49720" y="3672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60640" y="3657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14180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2740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992320" y="3284640"/>
            <a:ext cx="112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669760" y="3617640"/>
            <a:ext cx="549720" cy="15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 부담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59960" y="35038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975040" y="3152880"/>
            <a:ext cx="0" cy="28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47040" y="3750480"/>
            <a:ext cx="115812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총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300760" y="2154600"/>
            <a:ext cx="42804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소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262160" y="207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90720" y="23097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052640" y="23256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13400" y="2290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58920" y="2060640"/>
            <a:ext cx="699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16560" y="2292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79560" y="2308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13680" y="2529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95920" y="2529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1008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88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78296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10160" y="26697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429160" y="206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608184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68600" y="2295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731240" y="23115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65720" y="2532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947960" y="2532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62120" y="2517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40040" y="2517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193500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762200" y="26730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343720" y="630864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8134200" y="5757840"/>
          <a:ext cx="15084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34200" y="575784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8244000" y="6318360"/>
          <a:ext cx="15084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44000" y="631836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968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0587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0198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95280" y="1447920"/>
            <a:ext cx="515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65632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6960" y="2371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54000" y="2387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74440" y="2608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659560" y="2608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70480" y="2593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651640" y="25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76960" y="1933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32400" y="1949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74800" y="217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64240" y="217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70480" y="215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651640" y="215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78400" y="3044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70560" y="306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76600" y="3281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661000" y="3281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72280" y="3267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645160" y="326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4840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45156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19128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257160" y="1920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8876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47388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8480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46596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78520" y="2484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3876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78480" y="1909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64436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57560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6108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572000" y="213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5316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68792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998800" y="3405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064680" y="34210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10320" y="3641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81400" y="3641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992320" y="3627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59080" y="362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86080" y="327816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673440" y="3422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738960" y="34383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670920" y="3659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56040" y="365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666960" y="3645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948120" y="3645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933720" y="3270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709440" y="3755520"/>
            <a:ext cx="549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차등지수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찰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료차감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찰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78280" y="3790080"/>
            <a:ext cx="6714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약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차등지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27672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05280" y="2736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82680" y="27525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002400" y="2973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84640" y="2984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998800" y="2959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279600" y="295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005280" y="2289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98880" y="23050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03120" y="2525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82840" y="252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998800" y="2511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79600" y="251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330516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906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000080" y="22734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62000" y="22892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023120" y="22543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32600" y="2154600"/>
            <a:ext cx="42804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차등수가관련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293840" y="2060640"/>
            <a:ext cx="20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781280" y="228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847160" y="22986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778760" y="2519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63880" y="2519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77480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05596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205416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08360" y="27172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5T00:19:08Z</cp:lastPrinted>
  <dcterms:modified xsi:type="dcterms:W3CDTF">2005-10-12T01:10:39Z</dcterms:modified>
  <cp:revision>218</cp:revision>
  <dc:subject/>
  <dc:title>슬라이드 제목 없음</dc:title>
</cp:coreProperties>
</file>