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E18-042C-4E66-AC4B-BE8AEE59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467-E534-4C3C-88C8-115F6C97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836-F011-4EA8-B425-C4356DA7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B1F-1A74-4AF7-A173-4D8C2EB9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F0C-F2A0-4928-9C14-868F95B4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D6E-F6EA-403D-AAB8-74857A68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04A-9A1E-4C2F-84D6-637E9F55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F71-B3F9-4723-AE07-86938E5D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445-D09A-4C0A-985F-5D373448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5EB-6BC5-46D0-8527-EEE1DEC0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C52-7C16-4F64-AFE5-E1D4F18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6CF-7940-46A4-919A-629B519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B965A9-F7CE-4ECC-8586-60CE8FCA8E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605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4382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935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702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52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687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89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8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7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60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86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56200" y="32288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444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920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41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27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8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1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14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2228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68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7988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39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890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03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732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22720" y="3139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156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8560" y="357336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5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208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49840" y="143784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28200" y="383508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99280" y="16588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61280" y="1674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07920" y="1639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7584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10040" y="145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9760" y="190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15640" y="1924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7240" y="214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214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2130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24440" y="213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59200" y="233028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1440" y="4782960"/>
            <a:ext cx="54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7040" y="17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5200" y="19922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7200" y="20080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3840" y="1973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000" y="176220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4556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876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5420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2176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02240" y="1739880"/>
            <a:ext cx="21315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75040" y="38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15080" y="3976200"/>
            <a:ext cx="11581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5812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43360" y="5627880"/>
            <a:ext cx="5497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7936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7072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578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91200" y="23605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70200" y="20750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647040" y="6207120"/>
          <a:ext cx="15048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7040" y="620712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8317080" y="6372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7080" y="6372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44360" y="3025080"/>
            <a:ext cx="4280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5840" y="3473280"/>
            <a:ext cx="42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66080" y="1976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99280" y="199224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74720" y="1957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42280" y="175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476360" y="1773360"/>
            <a:ext cx="0" cy="72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440" y="2809440"/>
            <a:ext cx="5497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84920" y="3879000"/>
            <a:ext cx="67140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273400" y="479412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3400" y="479412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740120" y="2884320"/>
          <a:ext cx="150840" cy="2066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40120" y="288432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828360" y="389952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792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080880" y="2168640"/>
            <a:ext cx="347400" cy="323280"/>
            <a:chOff x="3080880" y="2168640"/>
            <a:chExt cx="347400" cy="323280"/>
          </a:xfrm>
        </p:grpSpPr>
        <p:sp>
          <p:nvSpPr>
            <p:cNvPr id="370" name=""/>
            <p:cNvSpPr/>
            <p:nvPr/>
          </p:nvSpPr>
          <p:spPr>
            <a:xfrm>
              <a:off x="3080880" y="2174760"/>
              <a:ext cx="213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85280" y="2168640"/>
              <a:ext cx="24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2" name=""/>
            <p:cNvGraphicFramePr/>
            <p:nvPr/>
          </p:nvGraphicFramePr>
          <p:xfrm>
            <a:off x="3141720" y="2286000"/>
            <a:ext cx="150840" cy="205920"/>
          </p:xfrm>
          <a:graphic>
            <a:graphicData uri="http://schemas.openxmlformats.org/presentationml/2006/ole">
              <p:oleObj progId="Word.Document.12" r:id="rId9" spid="">
                <p:embed/>
                <p:pic>
                  <p:nvPicPr>
                    <p:cNvPr id="37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41720" y="2286000"/>
                      <a:ext cx="15084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4" name=""/>
            <p:cNvGraphicFramePr/>
            <p:nvPr/>
          </p:nvGraphicFramePr>
          <p:xfrm>
            <a:off x="3260880" y="2286000"/>
            <a:ext cx="150480" cy="205920"/>
          </p:xfrm>
          <a:graphic>
            <a:graphicData uri="http://schemas.openxmlformats.org/presentationml/2006/ole">
              <p:oleObj progId="Word.Document.12" r:id="rId1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60880" y="2286000"/>
                      <a:ext cx="15048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76" name=""/>
          <p:cNvGraphicFramePr/>
          <p:nvPr/>
        </p:nvGraphicFramePr>
        <p:xfrm>
          <a:off x="6885000" y="6140520"/>
          <a:ext cx="150840" cy="2062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85000" y="61405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3020040" y="405648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3080" y="3341160"/>
            <a:ext cx="54972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1216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7408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3520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112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5960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09316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6824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4868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152880" y="20556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4940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2644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4688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3200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4328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4940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430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468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179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4328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544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210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519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370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479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91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148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54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10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470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705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957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1940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8564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1688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0200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1328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940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8004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1200" y="3284640"/>
            <a:ext cx="11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4120" y="361764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04320" y="3375360"/>
            <a:ext cx="4280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대상건수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3056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99240" y="3759480"/>
            <a:ext cx="140148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4548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6840" y="2730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2388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432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2944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036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2152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684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22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450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689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403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215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2008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1341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281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566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8512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5865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357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7404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1349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389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033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364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215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324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1056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4674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4128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5884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500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613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2812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773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16516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0751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5992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708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4408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4864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92604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4576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3088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216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2296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4864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0408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57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462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4216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229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6716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304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7904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4976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6104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2780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0216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1182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1660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98248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1408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920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1012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9128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928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2132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8432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1880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0068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148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92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8808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43360" y="2674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53392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186600" y="206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6918480" y="2076480"/>
          <a:ext cx="15048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8480" y="20764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060800" y="513252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0800" y="51325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8272440" y="623736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8172360" y="62406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72360" y="62406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95280" y="1447920"/>
            <a:ext cx="47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2959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166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936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01408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992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101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9128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166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720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144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038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101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9128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1804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102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162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006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115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848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2880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12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309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968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284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135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244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056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6181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784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1812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840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152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116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9280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275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93840" y="2060640"/>
            <a:ext cx="14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750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408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865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576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685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352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622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496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151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47480" y="3659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322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431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243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099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5256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81120" y="2736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588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786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7608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75000" y="295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7558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811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750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793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590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750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558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7813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5-10-12T02:28:04Z</dcterms:modified>
  <cp:revision>207</cp:revision>
  <dc:subject/>
  <dc:title>슬라이드 제목 없음</dc:title>
</cp:coreProperties>
</file>